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1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5.png" ContentType="image/png"/>
  <Override PartName="/ppt/media/image17.png" ContentType="image/png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28.jpeg" ContentType="image/jpeg"/>
  <Override PartName="/ppt/media/image109.png" ContentType="image/png"/>
  <Override PartName="/ppt/media/image49.png" ContentType="image/png"/>
  <Override PartName="/ppt/media/image100.png" ContentType="image/png"/>
  <Override PartName="/ppt/media/image40.png" ContentType="image/png"/>
  <Override PartName="/ppt/media/image52.png" ContentType="image/png"/>
  <Override PartName="/ppt/media/image8.png" ContentType="image/png"/>
  <Override PartName="/ppt/media/image30.png" ContentType="image/png"/>
  <Override PartName="/ppt/media/image3.jpeg" ContentType="image/jpe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82.png" ContentType="image/png"/>
  <Override PartName="/ppt/media/image14.png" ContentType="image/png"/>
  <Override PartName="/ppt/media/image25.png" ContentType="image/png"/>
  <Override PartName="/ppt/media/image9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50.png" ContentType="image/png"/>
  <Override PartName="/ppt/media/image42.png" ContentType="image/png"/>
  <Override PartName="/ppt/media/image2.jpeg" ContentType="image/jpeg"/>
  <Override PartName="/ppt/media/image9.png" ContentType="image/png"/>
  <Override PartName="/ppt/media/image31.png" ContentType="image/png"/>
  <Override PartName="/ppt/media/image34.png" ContentType="image/png"/>
  <Override PartName="/ppt/media/image39.png" ContentType="image/png"/>
  <Override PartName="/ppt/media/image33.png" ContentType="image/png"/>
  <Override PartName="/ppt/media/image32.png" ContentType="image/png"/>
  <Override PartName="/ppt/media/image38.png" ContentType="image/png"/>
  <Override PartName="/ppt/media/image37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media/image125.png" ContentType="image/png"/>
  <Override PartName="/ppt/media/image127.jpeg" ContentType="image/jpeg"/>
  <Override PartName="/ppt/media/image1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EF9-5AD9-49AA-8F59-2A3D2577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7E8-CDCB-4574-86E6-4B61C38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01F-00A7-4C80-BE8B-5E746DF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413-8C7F-4EDA-BFE3-FA0325C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A7C-31D1-4678-881D-5E6CB222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940-2AAF-4051-9169-78C3DFB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D42-9F50-491B-A68D-1F3F203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B5B-BCC5-4553-B142-AB5A047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A40-7365-4C21-AE8E-8EF6558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59E-CC9A-414D-A217-E0CF35DE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7C-3CF8-4AE2-BD00-0A14695A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3EA-9E37-4B16-9056-87324681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7800" y="0"/>
            <a:ext cx="30711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章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电子表格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Excel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38680" y="6095880"/>
            <a:ext cx="3505320" cy="2271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8eda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未标题-1%20副本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76920" y="6400800"/>
            <a:ext cx="17524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0632-A71E-4D24-BD34-E9CAF2419B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" Target="slide40.xml"/><Relationship Id="rId9" Type="http://schemas.openxmlformats.org/officeDocument/2006/relationships/slide" Target="slide65.xml"/><Relationship Id="rId10" Type="http://schemas.openxmlformats.org/officeDocument/2006/relationships/slide" Target="slide65.xml"/><Relationship Id="rId11" Type="http://schemas.openxmlformats.org/officeDocument/2006/relationships/slide" Target="slide65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118.xml"/><Relationship Id="rId17" Type="http://schemas.openxmlformats.org/officeDocument/2006/relationships/slide" Target="slide118.xml"/><Relationship Id="rId18" Type="http://schemas.openxmlformats.org/officeDocument/2006/relationships/slide" Target="slide118.xml"/><Relationship Id="rId19" Type="http://schemas.openxmlformats.org/officeDocument/2006/relationships/slide" Target="slide138.xml"/><Relationship Id="rId20" Type="http://schemas.openxmlformats.org/officeDocument/2006/relationships/slide" Target="slide138.xml"/><Relationship Id="rId21" Type="http://schemas.openxmlformats.org/officeDocument/2006/relationships/slide" Target="slide138.xml"/><Relationship Id="rId2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31.xml"/><Relationship Id="rId12" Type="http://schemas.openxmlformats.org/officeDocument/2006/relationships/slide" Target="slide31.xml"/><Relationship Id="rId13" Type="http://schemas.openxmlformats.org/officeDocument/2006/relationships/slide" Target="slide34.xml"/><Relationship Id="rId14" Type="http://schemas.openxmlformats.org/officeDocument/2006/relationships/slide" Target="slide34.xml"/><Relationship Id="rId15" Type="http://schemas.openxmlformats.org/officeDocument/2006/relationships/slide" Target="slide34.xm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19.xml"/><Relationship Id="rId3" Type="http://schemas.openxmlformats.org/officeDocument/2006/relationships/slide" Target="slide129.xml"/><Relationship Id="rId4" Type="http://schemas.openxmlformats.org/officeDocument/2006/relationships/slide" Target="slide129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8.xml"/><Relationship Id="rId8" Type="http://schemas.openxmlformats.org/officeDocument/2006/relationships/slide" Target="slide48.xml"/><Relationship Id="rId9" Type="http://schemas.openxmlformats.org/officeDocument/2006/relationships/slide" Target="slide51.xml"/><Relationship Id="rId10" Type="http://schemas.openxmlformats.org/officeDocument/2006/relationships/slide" Target="slide5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6.xml"/><Relationship Id="rId3" Type="http://schemas.openxmlformats.org/officeDocument/2006/relationships/slide" Target="slide69.xml"/><Relationship Id="rId4" Type="http://schemas.openxmlformats.org/officeDocument/2006/relationships/slide" Target="slide69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83.xml"/><Relationship Id="rId8" Type="http://schemas.openxmlformats.org/officeDocument/2006/relationships/slide" Target="slide83.xml"/><Relationship Id="rId9" Type="http://schemas.openxmlformats.org/officeDocument/2006/relationships/slide" Target="slide83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86.xml"/><Relationship Id="rId3" Type="http://schemas.openxmlformats.org/officeDocument/2006/relationships/slide" Target="slide89.xml"/><Relationship Id="rId4" Type="http://schemas.openxmlformats.org/officeDocument/2006/relationships/slide" Target="slide89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" Target="slide106.xml"/><Relationship Id="rId8" Type="http://schemas.openxmlformats.org/officeDocument/2006/relationships/slide" Target="slide106.xml"/><Relationship Id="rId9" Type="http://schemas.openxmlformats.org/officeDocument/2006/relationships/slide" Target="slide112.xml"/><Relationship Id="rId10" Type="http://schemas.openxmlformats.org/officeDocument/2006/relationships/slide" Target="slide112.xml"/><Relationship Id="rId11" Type="http://schemas.openxmlformats.org/officeDocument/2006/relationships/slide" Target="slide112.xml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电子表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Excel 200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中文版的启动与退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2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创建表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4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7" action="ppaction://hlinksldjump"/>
              </a:rPr>
              <a:t>工作表的编辑和格式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4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0" action="ppaction://hlinksldjump"/>
              </a:rPr>
              <a:t>创建图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2" action="ppaction://hlinksldjump"/>
              </a:rPr>
              <a:t>4.5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3" action="ppaction://hlinksldjump"/>
              </a:rPr>
              <a:t>Excel 2000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4" action="ppaction://hlinksldjump"/>
              </a:rPr>
              <a:t>的数据处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6" action="ppaction://hlinksldjump"/>
              </a:rPr>
              <a:t>4.6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7" action="ppaction://hlinksldjump"/>
              </a:rPr>
              <a:t>建立和编辑数据透视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9" action="ppaction://hlinksldjump"/>
              </a:rPr>
              <a:t>4.7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0" action="ppaction://hlinksldjump"/>
              </a:rPr>
              <a:t>页面设置和打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创建表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2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2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选择工作表、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2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输入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2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数据自动输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2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公式与函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4.2.6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单元格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4.2.7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数据编辑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未标题-3" descr="">
            <a:hlinkClick r:id="" action="ppaction://hlinkshowjump?jump=firstslide"/>
          </p:cNvPr>
          <p:cNvPicPr/>
          <p:nvPr/>
        </p:nvPicPr>
        <p:blipFill>
          <a:blip r:embed="rId16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筛选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42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未标题-19" descr=""/>
          <p:cNvPicPr/>
          <p:nvPr/>
        </p:nvPicPr>
        <p:blipFill>
          <a:blip r:embed="rId1"/>
          <a:stretch/>
        </p:blipFill>
        <p:spPr>
          <a:xfrm>
            <a:off x="1676520" y="2155680"/>
            <a:ext cx="5562360" cy="2802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20520" y="533412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3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自动筛选方式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09" name=""/>
          <p:cNvSpPr/>
          <p:nvPr/>
        </p:nvSpPr>
        <p:spPr>
          <a:xfrm>
            <a:off x="25527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未命名 -2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277040" cy="1904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484800" y="51055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级筛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用户要使用高级筛选，一定要先建立一个条件区域。条件区域用来指定筛选的数据必须满足的条件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003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Untitled-4" descr=""/>
          <p:cNvPicPr/>
          <p:nvPr/>
        </p:nvPicPr>
        <p:blipFill>
          <a:blip r:embed="rId1"/>
          <a:stretch/>
        </p:blipFill>
        <p:spPr>
          <a:xfrm>
            <a:off x="2666880" y="3432240"/>
            <a:ext cx="4648320" cy="25113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0880" y="3809880"/>
            <a:ext cx="1460520" cy="381240"/>
          </a:xfrm>
          <a:prstGeom prst="wedgeRoundRectCallout">
            <a:avLst>
              <a:gd name="adj1" fmla="val 128476"/>
              <a:gd name="adj2" fmla="val 15000"/>
              <a:gd name="adj3" fmla="val 16667"/>
            </a:avLst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空二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3733920"/>
            <a:ext cx="990360" cy="761760"/>
          </a:xfrm>
          <a:prstGeom prst="wedgeRoundRectCallout">
            <a:avLst>
              <a:gd name="adj1" fmla="val -334777"/>
              <a:gd name="adj2" fmla="val -37083"/>
              <a:gd name="adj3" fmla="val 16667"/>
            </a:avLst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区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27600" y="6095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区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未标题-16" descr=""/>
          <p:cNvPicPr/>
          <p:nvPr/>
        </p:nvPicPr>
        <p:blipFill>
          <a:blip r:embed="rId1"/>
          <a:stretch/>
        </p:blipFill>
        <p:spPr>
          <a:xfrm>
            <a:off x="2552760" y="2133720"/>
            <a:ext cx="4076640" cy="3557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20688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级筛选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95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未命名 -2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553080" cy="24354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953800" y="5299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显示数据表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未命名 -2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5838840" cy="2909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58920" y="54514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制后的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20120" y="2438280"/>
            <a:ext cx="1143000" cy="685800"/>
          </a:xfrm>
          <a:prstGeom prst="wedgeRoundRectCallout">
            <a:avLst>
              <a:gd name="adj1" fmla="val -216805"/>
              <a:gd name="adj2" fmla="val 232175"/>
              <a:gd name="adj3" fmla="val 16667"/>
            </a:avLst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复制的筛选结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5.4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排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71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默认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一列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多列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默认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默认排序时是根据单元格中的数据进行排序的。在按升序排序时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如下顺序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值从最小的负数到最大的正数排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文本和数字的文本按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~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~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~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顺序排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逻辑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排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所有错误值的优先级相同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空格排在最后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一列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766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book1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505320" cy="3337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069920" y="2049840"/>
            <a:ext cx="54612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排序方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2209680"/>
            <a:ext cx="380880" cy="25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580" y="9000"/>
                </a:moveTo>
                <a:lnTo>
                  <a:pt x="-4320" y="982"/>
                </a:lnTo>
              </a:path>
            </a:pathLst>
          </a:cu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主关键字排列顺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41" name=""/>
          <p:cNvSpPr/>
          <p:nvPr/>
        </p:nvSpPr>
        <p:spPr>
          <a:xfrm>
            <a:off x="317196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Untitled-6" descr=""/>
          <p:cNvPicPr/>
          <p:nvPr/>
        </p:nvPicPr>
        <p:blipFill>
          <a:blip r:embed="rId1"/>
          <a:stretch/>
        </p:blipFill>
        <p:spPr>
          <a:xfrm>
            <a:off x="2424240" y="2514600"/>
            <a:ext cx="5119560" cy="2770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92716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0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按“笔试”字段降序排列之后的结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簿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新建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开已有的工作簿文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保存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45" name=""/>
          <p:cNvSpPr/>
          <p:nvPr/>
        </p:nvSpPr>
        <p:spPr>
          <a:xfrm>
            <a:off x="30146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Untitled-7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062680" cy="27241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274560" y="54864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机试降序排列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多列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72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未标题-36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048120" cy="2903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926640" y="5562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多列排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1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Untitled-8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5105520" cy="2309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56160" y="514656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笔试为主要关键字，机试为次要关键字的排序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5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743200" y="21337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简单的分类汇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多级分类汇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分级显示数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分类汇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简单的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4804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book1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2741400" cy="27957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11472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book1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3962520" cy="25635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146560" y="53341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类汇总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02960" y="5562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分类汇总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创建多级分类汇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0528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book1" descr=""/>
          <p:cNvPicPr/>
          <p:nvPr/>
        </p:nvPicPr>
        <p:blipFill>
          <a:blip r:embed="rId1"/>
          <a:stretch/>
        </p:blipFill>
        <p:spPr>
          <a:xfrm>
            <a:off x="2073240" y="2133720"/>
            <a:ext cx="4843440" cy="31352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955240" y="54864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二级分类汇总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分级显示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下面介绍分级视图中的各个按钮的功能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级数据按钮：   只显示数据表格中的列标题和汇总结果，该级为最高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二级数据按钮：   显示分类汇总结果即二级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级数据按钮：   显示所有的详细数据即三级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级显示按钮：   表示高一级向低一级展开显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级显示按钮：   表示低一级折叠为高一级数据显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054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未标题-471" descr=""/>
          <p:cNvPicPr/>
          <p:nvPr/>
        </p:nvPicPr>
        <p:blipFill>
          <a:blip r:embed="rId1"/>
          <a:stretch/>
        </p:blipFill>
        <p:spPr>
          <a:xfrm>
            <a:off x="3235320" y="2590920"/>
            <a:ext cx="399960" cy="4572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4956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未标题-472" descr=""/>
          <p:cNvPicPr/>
          <p:nvPr/>
        </p:nvPicPr>
        <p:blipFill>
          <a:blip r:embed="rId2"/>
          <a:stretch/>
        </p:blipFill>
        <p:spPr>
          <a:xfrm>
            <a:off x="3179880" y="3581280"/>
            <a:ext cx="430200" cy="4572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4956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未标题-473" descr=""/>
          <p:cNvPicPr/>
          <p:nvPr/>
        </p:nvPicPr>
        <p:blipFill>
          <a:blip r:embed="rId3"/>
          <a:stretch/>
        </p:blipFill>
        <p:spPr>
          <a:xfrm>
            <a:off x="3179880" y="4191120"/>
            <a:ext cx="430200" cy="4572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4910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未标题-475" descr=""/>
          <p:cNvPicPr/>
          <p:nvPr/>
        </p:nvPicPr>
        <p:blipFill>
          <a:blip r:embed="rId4"/>
          <a:stretch/>
        </p:blipFill>
        <p:spPr>
          <a:xfrm>
            <a:off x="3179880" y="4724280"/>
            <a:ext cx="461880" cy="4622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481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未标题-476" descr=""/>
          <p:cNvPicPr/>
          <p:nvPr/>
        </p:nvPicPr>
        <p:blipFill>
          <a:blip r:embed="rId5"/>
          <a:stretch/>
        </p:blipFill>
        <p:spPr>
          <a:xfrm>
            <a:off x="3255840" y="5410080"/>
            <a:ext cx="395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288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book1" descr=""/>
          <p:cNvPicPr/>
          <p:nvPr/>
        </p:nvPicPr>
        <p:blipFill>
          <a:blip r:embed="rId1"/>
          <a:stretch/>
        </p:blipFill>
        <p:spPr>
          <a:xfrm>
            <a:off x="2019240" y="1905120"/>
            <a:ext cx="4953240" cy="2030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246440" y="2011320"/>
            <a:ext cx="9118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一级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386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book1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572000" cy="1922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722640" y="4191120"/>
            <a:ext cx="16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前两级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42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0" name="未标题-2" descr=""/>
          <p:cNvPicPr/>
          <p:nvPr/>
        </p:nvPicPr>
        <p:blipFill>
          <a:blip r:embed="rId1"/>
          <a:stretch/>
        </p:blipFill>
        <p:spPr>
          <a:xfrm>
            <a:off x="1881360" y="2438280"/>
            <a:ext cx="5229000" cy="2795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303720" y="5486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明细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6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建立和编辑数据透视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6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建立简单的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6.2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编辑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6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操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未标题-3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建立简单的数据透视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一般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部分组成，它们是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字段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行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列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区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33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book12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457880" cy="352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49880" y="52578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保文件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数据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数据源是透视表的数据来源。数据源可以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数据表格，也可以是外部数据表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的数据源，还可以是经过合并计算的多个数据区域以及另一个数据透视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透视表和数据透视图向导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22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未标题-52" descr=""/>
          <p:cNvPicPr/>
          <p:nvPr/>
        </p:nvPicPr>
        <p:blipFill>
          <a:blip r:embed="rId1"/>
          <a:stretch/>
        </p:blipFill>
        <p:spPr>
          <a:xfrm>
            <a:off x="2266920" y="2362320"/>
            <a:ext cx="4457880" cy="24397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011320" y="502920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1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814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6" name="未标题-30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296040" cy="1989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33720" y="4994280"/>
            <a:ext cx="48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2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909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未标题-54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53040" cy="24908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286000" y="5029200"/>
            <a:ext cx="50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3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924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未标题-33" descr=""/>
          <p:cNvPicPr/>
          <p:nvPr/>
        </p:nvPicPr>
        <p:blipFill>
          <a:blip r:embed="rId1"/>
          <a:stretch/>
        </p:blipFill>
        <p:spPr>
          <a:xfrm>
            <a:off x="1690560" y="2133720"/>
            <a:ext cx="5610240" cy="34858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534040" y="1260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4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47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未标题-32" descr=""/>
          <p:cNvPicPr/>
          <p:nvPr/>
        </p:nvPicPr>
        <p:blipFill>
          <a:blip r:embed="rId1"/>
          <a:stretch/>
        </p:blipFill>
        <p:spPr>
          <a:xfrm>
            <a:off x="1878120" y="2362320"/>
            <a:ext cx="5234040" cy="30286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038400" y="55627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的数据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529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未标题-57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4119480" cy="2881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265440" y="2666880"/>
            <a:ext cx="16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“数据透视表字段”对话框中设置汇总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未标题-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33720" cy="15224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303372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未标题-34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5286240" cy="2521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089760" y="99072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0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页字段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8720" y="243828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页字段筛选数据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481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未标题-2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95480" cy="21891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3577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未标题-1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876560" cy="24289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999400" y="434340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列字段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78720" y="25909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列字段筛选之后的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2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编辑数据透视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133720" y="228564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修改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添加和删除字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透视表选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化数据透视表中的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透视表的复制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选择工作表、单元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个单元格的选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连续的多个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不连续的多个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局部连续总体不连续的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整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工作表的所有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修改数据透视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386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未标题-2" descr=""/>
          <p:cNvPicPr/>
          <p:nvPr/>
        </p:nvPicPr>
        <p:blipFill>
          <a:blip r:embed="rId1"/>
          <a:stretch/>
        </p:blipFill>
        <p:spPr>
          <a:xfrm>
            <a:off x="1028880" y="2438280"/>
            <a:ext cx="6933960" cy="2400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2947680" y="518148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行列互换后的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添加和删除字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669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未标题-3" descr=""/>
          <p:cNvPicPr/>
          <p:nvPr/>
        </p:nvPicPr>
        <p:blipFill>
          <a:blip r:embed="rId1"/>
          <a:stretch/>
        </p:blipFill>
        <p:spPr>
          <a:xfrm>
            <a:off x="1658880" y="2573280"/>
            <a:ext cx="5672160" cy="15573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136320" y="4689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2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透视表选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" name="未标题-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30272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816480" y="5611680"/>
            <a:ext cx="30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3   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据透视表选项”对话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5764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未标题-12" descr=""/>
          <p:cNvPicPr/>
          <p:nvPr/>
        </p:nvPicPr>
        <p:blipFill>
          <a:blip r:embed="rId2"/>
          <a:stretch/>
        </p:blipFill>
        <p:spPr>
          <a:xfrm>
            <a:off x="4495680" y="2557440"/>
            <a:ext cx="4419720" cy="26748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5541120" y="5546880"/>
            <a:ext cx="26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4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后的数据透视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化数据透视表中的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76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未标题-70" descr=""/>
          <p:cNvPicPr/>
          <p:nvPr/>
        </p:nvPicPr>
        <p:blipFill>
          <a:blip r:embed="rId1"/>
          <a:stretch/>
        </p:blipFill>
        <p:spPr>
          <a:xfrm>
            <a:off x="2044800" y="2057400"/>
            <a:ext cx="4900680" cy="3344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2711520" y="55627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5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字段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660" name=""/>
          <p:cNvSpPr/>
          <p:nvPr/>
        </p:nvSpPr>
        <p:spPr>
          <a:xfrm>
            <a:off x="30290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" name="未标题-68" descr=""/>
          <p:cNvPicPr/>
          <p:nvPr/>
        </p:nvPicPr>
        <p:blipFill>
          <a:blip r:embed="rId1"/>
          <a:stretch/>
        </p:blipFill>
        <p:spPr>
          <a:xfrm>
            <a:off x="2185920" y="2057400"/>
            <a:ext cx="4619520" cy="35798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6875640" y="2666880"/>
            <a:ext cx="127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字段的格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664" name=""/>
          <p:cNvSpPr/>
          <p:nvPr/>
        </p:nvSpPr>
        <p:spPr>
          <a:xfrm>
            <a:off x="30621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5" name="未标题-1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776920" cy="2587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107520" y="54100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7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了格式之后的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透视表的复制和删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289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9" name="未标题-71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5356440" y="2590920"/>
            <a:ext cx="12776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移动或复制工作表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3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数据透视表的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更新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对数据透视表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改变数据透视表的汇总方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显示和隐藏明细数据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从另一数据透视表中建立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数据透视表绘制动态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7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页面设置和打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1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打印区域和分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面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打印预览和打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未标题-3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设置打印区域和分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未标题-2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4953240" cy="2556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221280" y="548640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打印区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设置打印区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输入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本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值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逻辑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只有两个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出错值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元格中显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#DIV/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！出错值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分页与分页预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909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6" name="未标题-2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4800600" cy="266544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56000" y="55627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插入水平分页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335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未标题-2" descr=""/>
          <p:cNvPicPr/>
          <p:nvPr/>
        </p:nvPicPr>
        <p:blipFill>
          <a:blip r:embed="rId1"/>
          <a:stretch/>
        </p:blipFill>
        <p:spPr>
          <a:xfrm>
            <a:off x="1911240" y="2057400"/>
            <a:ext cx="5167440" cy="31860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722680" y="541008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页预览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2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页面的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页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812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6" name="未标题-2" descr=""/>
          <p:cNvPicPr/>
          <p:nvPr/>
        </p:nvPicPr>
        <p:blipFill>
          <a:blip r:embed="rId1"/>
          <a:stretch/>
        </p:blipFill>
        <p:spPr>
          <a:xfrm>
            <a:off x="2301840" y="2590920"/>
            <a:ext cx="4386240" cy="32083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7089120" y="2819520"/>
            <a:ext cx="911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面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设置页边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7672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未标题-2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3581280" cy="25938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6098400" y="2895480"/>
            <a:ext cx="9118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边距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页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页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9580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5" name="未标题-2" descr=""/>
          <p:cNvPicPr/>
          <p:nvPr/>
        </p:nvPicPr>
        <p:blipFill>
          <a:blip r:embed="rId1"/>
          <a:stretch/>
        </p:blipFill>
        <p:spPr>
          <a:xfrm>
            <a:off x="2209680" y="2419200"/>
            <a:ext cx="3962520" cy="28972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605680" y="55627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脚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708" name=""/>
          <p:cNvSpPr/>
          <p:nvPr/>
        </p:nvSpPr>
        <p:spPr>
          <a:xfrm>
            <a:off x="2709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未标题-2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248520" cy="23652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9840" y="50292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页眉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432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未标题-2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038840" cy="29239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6860520" y="3048120"/>
            <a:ext cx="91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7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3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打印预览和打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印预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430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未标题-1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390920" cy="3298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875640" y="3352680"/>
            <a:ext cx="12776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印预览界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印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257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未标题-2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209840" cy="29131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708240" y="3048120"/>
            <a:ext cx="9118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未标题-3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aiandra GD"/>
              </a:rPr>
              <a:t>Thank you very much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2008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59160" y="2133720"/>
            <a:ext cx="164268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本章到此结束，谢谢您的光临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2" name="未标题-6" descr=""/>
          <p:cNvPicPr/>
          <p:nvPr/>
        </p:nvPicPr>
        <p:blipFill>
          <a:blip r:embed="rId3"/>
          <a:stretch/>
        </p:blipFill>
        <p:spPr>
          <a:xfrm>
            <a:off x="4800600" y="6384960"/>
            <a:ext cx="18288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336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book1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724280" cy="415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08080" y="54100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日期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2.4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自动输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14600" y="2209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填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用户自定义序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产生一个序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填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9096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ook15" descr=""/>
          <p:cNvPicPr/>
          <p:nvPr/>
        </p:nvPicPr>
        <p:blipFill>
          <a:blip r:embed="rId1"/>
          <a:stretch/>
        </p:blipFill>
        <p:spPr>
          <a:xfrm>
            <a:off x="1811160" y="2438280"/>
            <a:ext cx="5519880" cy="2733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56360" y="54864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填充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1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book16" descr=""/>
          <p:cNvPicPr/>
          <p:nvPr/>
        </p:nvPicPr>
        <p:blipFill>
          <a:blip r:embed="rId1"/>
          <a:stretch/>
        </p:blipFill>
        <p:spPr>
          <a:xfrm>
            <a:off x="1752480" y="2392200"/>
            <a:ext cx="6177240" cy="2071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64320" y="495288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值选两个单元格时的自动填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用户自定义序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58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book17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3943080" cy="295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22480" y="54100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序列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.1    Excel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文版的启动与退出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的启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1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初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Excel 2000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7" action="ppaction://hlinksldjump"/>
              </a:rPr>
              <a:t>的窗口界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4.1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的退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4.1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3" action="ppaction://hlinksldjump"/>
              </a:rPr>
              <a:t>中文版新功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未标题-3" descr="">
            <a:hlinkClick r:id="" action="ppaction://hlinkshowjump?jump=firstslide"/>
          </p:cNvPr>
          <p:cNvPicPr/>
          <p:nvPr/>
        </p:nvPicPr>
        <p:blipFill>
          <a:blip r:embed="rId14"/>
          <a:stretch/>
        </p:blipFill>
        <p:spPr>
          <a:xfrm>
            <a:off x="7010280" y="6400800"/>
            <a:ext cx="1955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产生一个序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916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ook35" descr=""/>
          <p:cNvPicPr/>
          <p:nvPr/>
        </p:nvPicPr>
        <p:blipFill>
          <a:blip r:embed="rId1"/>
          <a:stretch/>
        </p:blipFill>
        <p:spPr>
          <a:xfrm>
            <a:off x="2233440" y="2286000"/>
            <a:ext cx="4677120" cy="273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465720" y="53341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序列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公式与函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公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函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公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6660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公式中的运算符有以下四类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算术运算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比较运算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文本运算符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引用运算符（：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242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ok18" descr=""/>
          <p:cNvPicPr/>
          <p:nvPr/>
        </p:nvPicPr>
        <p:blipFill>
          <a:blip r:embed="rId1"/>
          <a:stretch/>
        </p:blipFill>
        <p:spPr>
          <a:xfrm>
            <a:off x="1211400" y="2065320"/>
            <a:ext cx="6719760" cy="2727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16520" y="514656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90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BOOK19" descr=""/>
          <p:cNvPicPr/>
          <p:nvPr/>
        </p:nvPicPr>
        <p:blipFill>
          <a:blip r:embed="rId1"/>
          <a:stretch/>
        </p:blipFill>
        <p:spPr>
          <a:xfrm>
            <a:off x="1535040" y="2438280"/>
            <a:ext cx="6072120" cy="264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69160" y="529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制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函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520" y="243828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函数的输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自动求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自动计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函数复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函数的输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函数的输入有两种方法：一为直接输入，一为粘贴函数法（即使用函数向导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6712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ook22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886200" cy="273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38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book22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505320" cy="2422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16680" y="606096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5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33920" y="560376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粘贴函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6696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ook23" descr=""/>
          <p:cNvPicPr/>
          <p:nvPr/>
        </p:nvPicPr>
        <p:blipFill>
          <a:blip r:embed="rId1"/>
          <a:stretch/>
        </p:blipFill>
        <p:spPr>
          <a:xfrm>
            <a:off x="1943280" y="2243160"/>
            <a:ext cx="5257800" cy="237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78240" y="49942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求和函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526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book24" descr=""/>
          <p:cNvPicPr/>
          <p:nvPr/>
        </p:nvPicPr>
        <p:blipFill>
          <a:blip r:embed="rId1"/>
          <a:stretch/>
        </p:blipFill>
        <p:spPr>
          <a:xfrm>
            <a:off x="1425600" y="2008080"/>
            <a:ext cx="6291360" cy="2840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25640" y="51814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函数列表中选择函数粘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自动求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527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book26" descr=""/>
          <p:cNvPicPr/>
          <p:nvPr/>
        </p:nvPicPr>
        <p:blipFill>
          <a:blip r:embed="rId1"/>
          <a:stretch/>
        </p:blipFill>
        <p:spPr>
          <a:xfrm>
            <a:off x="1933560" y="2171880"/>
            <a:ext cx="527688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81040" y="502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求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1   Excel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启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开始”按钮，在“程序”选项的子菜单中单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选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已存在的电子表格文件启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同时也打开了该文件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如果桌面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快捷方式图标，双击快捷图标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自动计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book27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248440" cy="223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477120" y="3581280"/>
            <a:ext cx="1600200" cy="457200"/>
          </a:xfrm>
          <a:solidFill>
            <a:srgbClr val="cc99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计算结果显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1960" y="2708280"/>
            <a:ext cx="1741320" cy="415800"/>
          </a:xfr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功能菜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27880" y="2117880"/>
            <a:ext cx="1701720" cy="396720"/>
          </a:xfr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的区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040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计算功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6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元格引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2416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相对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绝对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混合引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三维地址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引用名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576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book28" descr=""/>
          <p:cNvPicPr/>
          <p:nvPr/>
        </p:nvPicPr>
        <p:blipFill>
          <a:blip r:embed="rId1"/>
          <a:stretch/>
        </p:blipFill>
        <p:spPr>
          <a:xfrm>
            <a:off x="1733400" y="2049480"/>
            <a:ext cx="5677200" cy="275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926800" y="510552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对引用和绝对引用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00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BOOK30" descr=""/>
          <p:cNvPicPr/>
          <p:nvPr/>
        </p:nvPicPr>
        <p:blipFill>
          <a:blip r:embed="rId1"/>
          <a:stretch/>
        </p:blipFill>
        <p:spPr>
          <a:xfrm>
            <a:off x="1523880" y="2023920"/>
            <a:ext cx="5486400" cy="2810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5128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字引用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3067200"/>
            <a:ext cx="1328760" cy="285480"/>
          </a:xfr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名字引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4038480"/>
            <a:ext cx="1066680" cy="381240"/>
          </a:xfr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地址引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124080"/>
            <a:ext cx="29718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886200"/>
            <a:ext cx="281916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7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数据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修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复制和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元格、行、列的插入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查找与替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给单元格加批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修改与数据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，修改数据有两种方法：一是在编辑栏中修改，二是直接在单元格中修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数据删除有两个概念：数据清除和数据删除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复制和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数据复制、移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性粘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选择性粘贴操作步骤为：先将数据复制到剪贴板，再选择待粘贴目标区域中的第一个单元格，选择“编辑”菜单的“选择性粘贴”命令，出现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-2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所示的对话框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元格、行、列的插入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整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查找与替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book37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1871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05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book36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114800" cy="1685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49920" y="49528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7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查找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23360" y="49528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替换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给单元格加批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book38" descr=""/>
          <p:cNvPicPr/>
          <p:nvPr/>
        </p:nvPicPr>
        <p:blipFill>
          <a:blip r:embed="rId1"/>
          <a:stretch/>
        </p:blipFill>
        <p:spPr>
          <a:xfrm>
            <a:off x="1676520" y="2205000"/>
            <a:ext cx="5410080" cy="2674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959560" y="53341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批注对话框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4.1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初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Excel 2000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窗口界面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670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book2" descr=""/>
          <p:cNvPicPr/>
          <p:nvPr/>
        </p:nvPicPr>
        <p:blipFill>
          <a:blip r:embed="rId1"/>
          <a:stretch/>
        </p:blipFill>
        <p:spPr>
          <a:xfrm>
            <a:off x="1676520" y="2019240"/>
            <a:ext cx="4190760" cy="3465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47120" y="571500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2   Excel 20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用户界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3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工作表的编辑和格式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0484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3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工作表的删除、插入和重命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3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工作表的复制与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3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隐藏和取消隐藏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3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工作表窗口的拆分与冻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3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工作表格式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未标题-3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的删除、插入和重命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取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插入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重命名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取工作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43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book40" descr=""/>
          <p:cNvPicPr/>
          <p:nvPr/>
        </p:nvPicPr>
        <p:blipFill>
          <a:blip r:embed="rId1"/>
          <a:stretch/>
        </p:blipFill>
        <p:spPr>
          <a:xfrm>
            <a:off x="1701720" y="2286000"/>
            <a:ext cx="5738760" cy="275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93004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-31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作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338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book41" descr=""/>
          <p:cNvPicPr/>
          <p:nvPr/>
        </p:nvPicPr>
        <p:blipFill>
          <a:blip r:embed="rId1"/>
          <a:stretch/>
        </p:blipFill>
        <p:spPr>
          <a:xfrm>
            <a:off x="2149560" y="2209680"/>
            <a:ext cx="4843440" cy="2827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39080" y="5334120"/>
            <a:ext cx="40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2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击标签滚动条显示工作表列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重命名工作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81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未标题-1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757680" cy="2346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14400" y="5410080"/>
            <a:ext cx="1295280" cy="79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3656" y="-16439"/>
                </a:moveTo>
                <a:lnTo>
                  <a:pt x="22871" y="3123"/>
                </a:lnTo>
              </a:path>
            </a:pathLst>
          </a:cu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新的工作表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4520" y="525780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4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工作表命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的复制与移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菜单命令复制或移动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鼠标复制或移动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577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book45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2833920" cy="3362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808960" y="2514600"/>
            <a:ext cx="1277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移动或复制工作表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隐藏和取消隐藏工作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隐藏工作表的方法如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要隐藏的工作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格式”菜单中“工作表”命令，在弹出的级联菜单中单击“隐藏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取消隐藏工作表的方法如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格式”菜单中的“工作表”命令，在弹出的子菜单中单击“取消隐藏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弹出的“取消隐藏”对话框中选择要取消隐藏的工作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4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窗口的拆分与冻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工作表窗口的拆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拆分可分为三种：水平拆分、垂直拆分、水平和垂直同时拆分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工作表窗口的冻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窗口冻结操作方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冻结位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“窗口”菜单中的“冻结窗口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3623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book46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90960" cy="3057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099960" y="5410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窗口拆分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用户界面的组成及功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标题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菜单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常用工具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格式工具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6400" y="2590920"/>
            <a:ext cx="20790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编辑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工作表格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工作表标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滚动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拆分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621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book44" descr=""/>
          <p:cNvPicPr/>
          <p:nvPr/>
        </p:nvPicPr>
        <p:blipFill>
          <a:blip r:embed="rId1"/>
          <a:stretch/>
        </p:blipFill>
        <p:spPr>
          <a:xfrm>
            <a:off x="1585800" y="2057400"/>
            <a:ext cx="5972400" cy="3240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373560" y="5486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窗口冻结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09320" y="21337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格式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的复制、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工作表背景图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格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数字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对齐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字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边框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单元格或单元格区域图案和颜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列宽、行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条件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07180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book47" descr=""/>
          <p:cNvPicPr/>
          <p:nvPr/>
        </p:nvPicPr>
        <p:blipFill>
          <a:blip r:embed="rId1"/>
          <a:stretch/>
        </p:blipFill>
        <p:spPr>
          <a:xfrm>
            <a:off x="212760" y="3170160"/>
            <a:ext cx="8718480" cy="56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061000" y="5715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143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字体格式示例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请您点击鼠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4648320"/>
            <a:ext cx="1676520" cy="38088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设置字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800600"/>
            <a:ext cx="762120" cy="6858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字体大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81080"/>
            <a:ext cx="892080" cy="38124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粗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1981080"/>
            <a:ext cx="876240" cy="4572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c3300"/>
                </a:solidFill>
                <a:latin typeface="Times New Roman"/>
              </a:rPr>
              <a:t>斜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0080" y="1676520"/>
            <a:ext cx="1420920" cy="4572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下画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4800600"/>
            <a:ext cx="16002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707" y="-50400"/>
                </a:moveTo>
                <a:lnTo>
                  <a:pt x="-1029" y="4629"/>
                </a:lnTo>
              </a:path>
            </a:pathLst>
          </a:custGeo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对齐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005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未标题-2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263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992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未标题-2" descr=""/>
          <p:cNvPicPr/>
          <p:nvPr/>
        </p:nvPicPr>
        <p:blipFill>
          <a:blip r:embed="rId2"/>
          <a:stretch/>
        </p:blipFill>
        <p:spPr>
          <a:xfrm>
            <a:off x="5029200" y="2149560"/>
            <a:ext cx="3505320" cy="313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73600" y="56386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格式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9640" y="54864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齐方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13280" y="1143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数字格式和对齐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338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未标题-1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767480" cy="3138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09480" y="2852640"/>
            <a:ext cx="139248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456" y="26469"/>
                </a:moveTo>
                <a:lnTo>
                  <a:pt x="22782" y="4937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自动换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1600200"/>
            <a:ext cx="16765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500" y="44050"/>
                </a:moveTo>
                <a:lnTo>
                  <a:pt x="-982" y="36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水平居中与合并单元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4495680"/>
            <a:ext cx="12952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900" y="-4425"/>
                </a:moveTo>
                <a:lnTo>
                  <a:pt x="-1271" y="54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旋转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4114800"/>
            <a:ext cx="1600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3750" y="-17606"/>
                </a:moveTo>
                <a:lnTo>
                  <a:pt x="22629" y="40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缩小字体填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13240" y="5638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齐格式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8632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未标题-1" descr=""/>
          <p:cNvPicPr/>
          <p:nvPr/>
        </p:nvPicPr>
        <p:blipFill>
          <a:blip r:embed="rId1"/>
          <a:stretch/>
        </p:blipFill>
        <p:spPr>
          <a:xfrm>
            <a:off x="2668680" y="2133720"/>
            <a:ext cx="3805200" cy="3179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465720" y="55627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体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066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字体格式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4434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未标题-1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505320" cy="3090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57200" y="2070000"/>
            <a:ext cx="178452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225" y="52611"/>
                </a:moveTo>
                <a:lnTo>
                  <a:pt x="22522" y="5554"/>
                </a:lnTo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清除所有框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2971800"/>
            <a:ext cx="13302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391" y="55260"/>
                </a:moveTo>
                <a:lnTo>
                  <a:pt x="22837" y="6480"/>
                </a:lnTo>
              </a:path>
            </a:pathLst>
          </a:custGeom>
          <a:solidFill>
            <a:srgbClr val="ff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预览效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6840" y="3594240"/>
            <a:ext cx="2798280" cy="901440"/>
            <a:chOff x="96840" y="3594240"/>
            <a:chExt cx="2798280" cy="901440"/>
          </a:xfrm>
        </p:grpSpPr>
        <p:sp>
          <p:nvSpPr>
            <p:cNvPr id="307" name=""/>
            <p:cNvSpPr/>
            <p:nvPr/>
          </p:nvSpPr>
          <p:spPr>
            <a:xfrm>
              <a:off x="96840" y="3594240"/>
              <a:ext cx="112716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81472" y="48600"/>
                  </a:moveTo>
                  <a:lnTo>
                    <a:pt x="23060" y="5554"/>
                  </a:lnTo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Times New Roman"/>
                </a:rPr>
                <a:t>画对角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1493640" y="3857760"/>
              <a:ext cx="1401480" cy="63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04920" y="5197320"/>
            <a:ext cx="1295280" cy="7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9474" y="-17464"/>
                </a:moveTo>
                <a:lnTo>
                  <a:pt x="22871" y="3309"/>
                </a:lnTo>
              </a:path>
            </a:pathLst>
          </a:custGeom>
          <a:solidFill>
            <a:srgbClr val="cc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清除或添加左边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572000"/>
            <a:ext cx="1447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79" y="-3431"/>
                </a:moveTo>
                <a:lnTo>
                  <a:pt x="-1137" y="4000"/>
                </a:lnTo>
              </a:path>
            </a:pathLst>
          </a:cu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边框线的颜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386160"/>
            <a:ext cx="1828800" cy="72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63" y="3388"/>
                </a:moveTo>
                <a:lnTo>
                  <a:pt x="-900" y="3388"/>
                </a:lnTo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边框线的线型和粗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2057400"/>
            <a:ext cx="13716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00" y="31320"/>
                </a:moveTo>
                <a:lnTo>
                  <a:pt x="-1200" y="3240"/>
                </a:lnTo>
              </a:path>
            </a:pathLst>
          </a:custGeom>
          <a:solidFill>
            <a:srgbClr val="8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选区域加外框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9200" y="1143000"/>
            <a:ext cx="18288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31" y="79714"/>
                </a:moveTo>
                <a:lnTo>
                  <a:pt x="-900" y="4629"/>
                </a:lnTo>
              </a:path>
            </a:pathLst>
          </a:custGeom>
          <a:solidFill>
            <a:srgbClr val="000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部加表格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13280" y="56386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边框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边框线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4434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未标题-2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3719520" cy="326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701800" y="54864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图案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56920" y="1219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单元格或单元格区域图案和颜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2367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282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962520" cy="2436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17960" y="529920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菜单中行高、列宽命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列宽、行高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24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ook4" descr=""/>
          <p:cNvPicPr/>
          <p:nvPr/>
        </p:nvPicPr>
        <p:blipFill>
          <a:blip r:embed="rId1"/>
          <a:stretch/>
        </p:blipFill>
        <p:spPr>
          <a:xfrm>
            <a:off x="1611360" y="914400"/>
            <a:ext cx="5919840" cy="215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12240" y="3429000"/>
            <a:ext cx="37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 Excel 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文版编辑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52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book5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69644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42040" y="556272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4862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未标题-1" descr=""/>
          <p:cNvPicPr/>
          <p:nvPr/>
        </p:nvPicPr>
        <p:blipFill>
          <a:blip r:embed="rId1"/>
          <a:stretch/>
        </p:blipFill>
        <p:spPr>
          <a:xfrm>
            <a:off x="1676520" y="2027160"/>
            <a:ext cx="5343480" cy="3092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387240" y="53751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格式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件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2896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未标题-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510320" cy="2111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1800" y="1371600"/>
            <a:ext cx="133020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46" y="105617"/>
                </a:moveTo>
                <a:lnTo>
                  <a:pt x="-1237" y="5535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运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1752480"/>
            <a:ext cx="121896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53" y="150300"/>
                </a:moveTo>
                <a:lnTo>
                  <a:pt x="-1350" y="1080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1143000"/>
            <a:ext cx="1676520" cy="63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41" y="91827"/>
                </a:moveTo>
                <a:lnTo>
                  <a:pt x="-982" y="3908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单击打开格式对话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5105520"/>
            <a:ext cx="15332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480" y="-35280"/>
                </a:moveTo>
                <a:lnTo>
                  <a:pt x="22673" y="648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添加条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638680"/>
            <a:ext cx="16002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29" y="-48021"/>
                </a:moveTo>
                <a:lnTo>
                  <a:pt x="22629" y="4629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删除条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9920" y="5334120"/>
            <a:ext cx="175248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61" y="-82710"/>
                </a:moveTo>
                <a:lnTo>
                  <a:pt x="-939" y="648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预览效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6520" y="1964880"/>
            <a:ext cx="54612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3680" y="114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件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910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未标题-1" descr=""/>
          <p:cNvPicPr/>
          <p:nvPr/>
        </p:nvPicPr>
        <p:blipFill>
          <a:blip r:embed="rId1"/>
          <a:stretch/>
        </p:blipFill>
        <p:spPr>
          <a:xfrm>
            <a:off x="2585880" y="2286000"/>
            <a:ext cx="3972240" cy="2849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107880" y="5410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套用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的复制、删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格式复制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方法一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单击“编辑”菜单中的“复制”命令。选择目标区域，单击“编辑”菜单中的“选择性粘贴”命令，在打开的选择性粘贴对话框中选中“格式”按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方法二：选“格式刷”按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格式删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选择要删除格式的区域。选择“编辑”菜单中的“清除”命令，在弹出的子菜单中选择“格式”子命令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工作表背景图案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未标题-1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720040" cy="23986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578040" y="52228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背景图案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4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创建图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4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使用“图表”工具栏创建简单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4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利用图表向导创建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4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图表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4.4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图表格式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未标题-3" descr="">
            <a:hlinkClick r:id="" action="ppaction://hlinkshowjump?jump=firstslide"/>
          </p:cNvPr>
          <p:cNvPicPr/>
          <p:nvPr/>
        </p:nvPicPr>
        <p:blipFill>
          <a:blip r:embed="rId10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使用“图表”工具栏创建简单图表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请您点击鼠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574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book1" descr=""/>
          <p:cNvPicPr/>
          <p:nvPr/>
        </p:nvPicPr>
        <p:blipFill>
          <a:blip r:embed="rId1"/>
          <a:stretch/>
        </p:blipFill>
        <p:spPr>
          <a:xfrm flipH="1" rot="10800000">
            <a:off x="1071720" y="2922120"/>
            <a:ext cx="7000560" cy="858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8600" y="2133720"/>
            <a:ext cx="13716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825" y="95963"/>
                </a:moveTo>
                <a:lnTo>
                  <a:pt x="22800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对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5010120"/>
            <a:ext cx="609480" cy="62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27463" y="-48818"/>
                </a:moveTo>
                <a:lnTo>
                  <a:pt x="24300" y="3927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类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33880" y="5105520"/>
            <a:ext cx="5904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632" y="-112275"/>
                </a:moveTo>
                <a:lnTo>
                  <a:pt x="24387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24760" y="1752480"/>
            <a:ext cx="64764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771" y="96840"/>
                </a:moveTo>
                <a:lnTo>
                  <a:pt x="-2541" y="648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按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67480" y="4495680"/>
            <a:ext cx="7239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79" y="-61425"/>
                </a:moveTo>
                <a:lnTo>
                  <a:pt x="-2274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按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55720" y="4322880"/>
            <a:ext cx="71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2133720"/>
            <a:ext cx="13716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875" y="90450"/>
                </a:moveTo>
                <a:lnTo>
                  <a:pt x="-1200" y="8100"/>
                </a:lnTo>
              </a:path>
            </a:pathLst>
          </a:cu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区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69080" y="57913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8335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book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4375080" cy="3284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22480" y="54864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的工作表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47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book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543560" cy="3402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784600" y="5638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行产生的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利用图表向导创建图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146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book" descr=""/>
          <p:cNvPicPr/>
          <p:nvPr/>
        </p:nvPicPr>
        <p:blipFill>
          <a:blip r:embed="rId1"/>
          <a:stretch/>
        </p:blipFill>
        <p:spPr>
          <a:xfrm>
            <a:off x="2811600" y="2057400"/>
            <a:ext cx="3519360" cy="3273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115160" y="5562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向导对话框一：图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384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ook7" descr=""/>
          <p:cNvPicPr/>
          <p:nvPr/>
        </p:nvPicPr>
        <p:blipFill>
          <a:blip r:embed="rId1"/>
          <a:stretch/>
        </p:blipFill>
        <p:spPr>
          <a:xfrm>
            <a:off x="1938240" y="2095560"/>
            <a:ext cx="5267520" cy="2666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49880" y="518148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拆分框的使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3289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book" descr=""/>
          <p:cNvPicPr/>
          <p:nvPr/>
        </p:nvPicPr>
        <p:blipFill>
          <a:blip r:embed="rId1"/>
          <a:srcRect l="641" t="708" r="0" b="0"/>
          <a:stretch/>
        </p:blipFill>
        <p:spPr>
          <a:xfrm>
            <a:off x="685800" y="2209680"/>
            <a:ext cx="3505320" cy="3436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3955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book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3168720" cy="32716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033560" y="5916600"/>
            <a:ext cx="31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57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表向导对话框二：数据源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44640" y="563868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列产生在“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40056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book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25620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2148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book" descr=""/>
          <p:cNvPicPr/>
          <p:nvPr/>
        </p:nvPicPr>
        <p:blipFill>
          <a:blip r:embed="rId2"/>
          <a:srcRect l="1105" t="1141" r="0" b="0"/>
          <a:stretch/>
        </p:blipFill>
        <p:spPr>
          <a:xfrm>
            <a:off x="4495680" y="2176560"/>
            <a:ext cx="4343400" cy="2681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33520" y="57913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59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设置系列名称和分类轴标志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0080" y="52578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60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表向导对话框三：图表选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295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book" descr=""/>
          <p:cNvPicPr/>
          <p:nvPr/>
        </p:nvPicPr>
        <p:blipFill>
          <a:blip r:embed="rId1"/>
          <a:stretch/>
        </p:blipFill>
        <p:spPr>
          <a:xfrm>
            <a:off x="1509840" y="2181240"/>
            <a:ext cx="5972040" cy="23414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759760" y="51055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向导对话框：图表位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766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book" descr=""/>
          <p:cNvPicPr/>
          <p:nvPr/>
        </p:nvPicPr>
        <p:blipFill>
          <a:blip r:embed="rId1"/>
          <a:stretch/>
        </p:blipFill>
        <p:spPr>
          <a:xfrm>
            <a:off x="2328840" y="2057400"/>
            <a:ext cx="4334040" cy="3255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759760" y="54864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图表向导创建的独立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图表的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对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图表的移动、复制、缩放和删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图表类型的改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中数据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中文字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效果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66688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book" descr=""/>
          <p:cNvPicPr/>
          <p:nvPr/>
        </p:nvPicPr>
        <p:blipFill>
          <a:blip r:embed="rId1"/>
          <a:stretch/>
        </p:blipFill>
        <p:spPr>
          <a:xfrm>
            <a:off x="2324160" y="2133720"/>
            <a:ext cx="4343400" cy="3247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297240" y="5562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对象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0666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表对象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图表中数据的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删除数据系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向图表添加数据系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图表中数据系列次序的调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100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未标题-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634000" cy="257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860560" y="52578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添加数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4290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未标题-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338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556000" y="55627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列次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图表中文字的编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增加图表标题和坐标轴标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增加数据标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100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book1" descr=""/>
          <p:cNvPicPr/>
          <p:nvPr/>
        </p:nvPicPr>
        <p:blipFill>
          <a:blip r:embed="rId1"/>
          <a:stretch/>
        </p:blipFill>
        <p:spPr>
          <a:xfrm>
            <a:off x="2324160" y="3352680"/>
            <a:ext cx="4343400" cy="2673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352680" y="4419720"/>
            <a:ext cx="1752840" cy="9111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581280" y="4648320"/>
            <a:ext cx="914400" cy="4572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4038480"/>
            <a:ext cx="1600200" cy="0"/>
          </a:xfrm>
          <a:prstGeom prst="line">
            <a:avLst/>
          </a:prstGeom>
          <a:ln w="64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71080" y="3657600"/>
            <a:ext cx="12776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6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选项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1.3   Excel 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退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退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方法很多，常用方法有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单击应用程序标题栏最右端的（关闭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按钮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打开“文件”菜单，单击“退出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退出前文件已被修改，系统将提示是否保存修改的内容，这时可根据是否要保存文件来回答“是”或“否”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效果的设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图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网格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三维图表视角的改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528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book1" descr=""/>
          <p:cNvPicPr/>
          <p:nvPr/>
        </p:nvPicPr>
        <p:blipFill>
          <a:blip r:embed="rId1"/>
          <a:srcRect l="1965" t="1954" r="0" b="0"/>
          <a:stretch/>
        </p:blipFill>
        <p:spPr>
          <a:xfrm>
            <a:off x="1828800" y="2133720"/>
            <a:ext cx="5334120" cy="3311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42000" y="56386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添加网格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288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book1" descr=""/>
          <p:cNvPicPr/>
          <p:nvPr/>
        </p:nvPicPr>
        <p:blipFill>
          <a:blip r:embed="rId1"/>
          <a:srcRect l="0" t="2818" r="2827" b="0"/>
          <a:stretch/>
        </p:blipFill>
        <p:spPr>
          <a:xfrm>
            <a:off x="1957320" y="2286000"/>
            <a:ext cx="5076720" cy="30243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120840" y="552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三维视角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4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图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要对图表对象进行格式化可以有三种方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要编辑的对象，单击“格式”菜单中增加的该对象选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图表中直接双击要进行编辑的对象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要进行格式化的对象上点击鼠标右键，在弹出菜单中选择对象格式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8616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book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10240" cy="3137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3861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book" descr=""/>
          <p:cNvPicPr/>
          <p:nvPr/>
        </p:nvPicPr>
        <p:blipFill>
          <a:blip r:embed="rId2"/>
          <a:srcRect l="0" t="1841" r="1791" b="0"/>
          <a:stretch/>
        </p:blipFill>
        <p:spPr>
          <a:xfrm>
            <a:off x="4800600" y="2603520"/>
            <a:ext cx="3657600" cy="3025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73160" y="586728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绘画区格式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5360" y="20574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坐标轴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5    Excel 2000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数据处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72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5.1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建立数据表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5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使用记录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5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筛选数据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5.4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数据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5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分类汇总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未标题-3" descr="">
            <a:hlinkClick r:id="" action="ppaction://hlinkshowjump?jump=firstslide"/>
          </p:cNvPr>
          <p:cNvPicPr/>
          <p:nvPr/>
        </p:nvPicPr>
        <p:blipFill>
          <a:blip r:embed="rId12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1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建立数据表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xcel 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建立数据表格十分简单，前面章节例子中的工作表都是数据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面介绍几个术语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字段：数据表的一列称为字段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记录：数据表的一行称为记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字段名：在数据表的顶行通常有字段名，字段名是字段内容的概括和说明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未命名 -2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6172200" cy="27367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58920" y="52992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表行列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建立和使用数据表格时，用户应注意以下几个问题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避免在一张工作表中建立多个数据表格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数据表格的数据和其他数据之间至少留出一个空行和空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避免在数据表格的各条记录或各个字段之间放置空行和空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最好使用列名，而且把列名作为字段的名称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字段名的字体，对齐方式等格式最好与数据表中其他数据相区别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使用记录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04760" y="259056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添加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修改和删除记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搜索条件匹配的记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1.4   Excel 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中文版新功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新增“剪贴板“工具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工作表格区采用透明模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新增“检测与修复“功能选项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日期格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语种设置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功能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脚本编辑器”选项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安全性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ffice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助手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添加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未命名 -3" descr=""/>
          <p:cNvPicPr/>
          <p:nvPr/>
        </p:nvPicPr>
        <p:blipFill>
          <a:blip r:embed="rId1"/>
          <a:stretch/>
        </p:blipFill>
        <p:spPr>
          <a:xfrm>
            <a:off x="2516040" y="2057400"/>
            <a:ext cx="3786480" cy="3809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61240" y="1766520"/>
            <a:ext cx="5461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2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记录新建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使用记录单修改和删除记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5" name="未标题-5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3774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089120" y="2438280"/>
            <a:ext cx="91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记录单修改记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68" name=""/>
          <p:cNvSpPr/>
          <p:nvPr/>
        </p:nvSpPr>
        <p:spPr>
          <a:xfrm>
            <a:off x="27525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Untitled-2" descr=""/>
          <p:cNvPicPr/>
          <p:nvPr/>
        </p:nvPicPr>
        <p:blipFill>
          <a:blip r:embed="rId1"/>
          <a:stretch/>
        </p:blipFill>
        <p:spPr>
          <a:xfrm>
            <a:off x="1147680" y="2438280"/>
            <a:ext cx="6696000" cy="24894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31920" y="525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记录修改后的数据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72" name=""/>
          <p:cNvSpPr/>
          <p:nvPr/>
        </p:nvSpPr>
        <p:spPr>
          <a:xfrm>
            <a:off x="36957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未标题-8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91400" cy="2143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213000" y="50292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记录的删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搜索条件匹配的记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未标题-10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78200" cy="3124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7004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未命名 -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033720" cy="3100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006920" y="571500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6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查询条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65640" y="52578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7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查找到满足条件的第一条记录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筛选数据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19520" y="22096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级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筛选示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8 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2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478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7" name="未命名 -2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191280" cy="2681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2889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拉箭头按扭的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90" name=""/>
          <p:cNvSpPr/>
          <p:nvPr/>
        </p:nvSpPr>
        <p:spPr>
          <a:xfrm>
            <a:off x="233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Untitled-3" descr=""/>
          <p:cNvPicPr/>
          <p:nvPr/>
        </p:nvPicPr>
        <p:blipFill>
          <a:blip r:embed="rId1"/>
          <a:stretch/>
        </p:blipFill>
        <p:spPr>
          <a:xfrm>
            <a:off x="747720" y="2451240"/>
            <a:ext cx="7496280" cy="1801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831760" y="4724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9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筛选之后的清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94" name=""/>
          <p:cNvSpPr/>
          <p:nvPr/>
        </p:nvSpPr>
        <p:spPr>
          <a:xfrm>
            <a:off x="225252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未命名 -2" descr=""/>
          <p:cNvPicPr/>
          <p:nvPr/>
        </p:nvPicPr>
        <p:blipFill>
          <a:blip r:embed="rId1"/>
          <a:stretch/>
        </p:blipFill>
        <p:spPr>
          <a:xfrm>
            <a:off x="744480" y="2743200"/>
            <a:ext cx="7500960" cy="17254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941200" y="4876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条件筛选的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3242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未标题-1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010120" cy="1758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088400" y="2286000"/>
            <a:ext cx="1277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筛选条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86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未命名 -2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5257800" cy="17524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104240" y="4191120"/>
            <a:ext cx="1277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00:56:58Z</dcterms:created>
  <dc:creator>gsjf</dc:creator>
  <dc:description/>
  <dc:language>en-US</dc:language>
  <cp:lastModifiedBy>gsjf</cp:lastModifiedBy>
  <dcterms:modified xsi:type="dcterms:W3CDTF">2001-09-07T14:33:04Z</dcterms:modified>
  <cp:revision>110</cp:revision>
  <dc:subject/>
  <dc:title>竞争分析</dc:title>
</cp:coreProperties>
</file>